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7559675" cy="104394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9163-233C-4BA5-B6CC-D87963D28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78000" y="418680"/>
            <a:ext cx="6805440" cy="173988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78000" y="2436840"/>
            <a:ext cx="6805440" cy="328608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78000" y="6035400"/>
            <a:ext cx="6805440" cy="328608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972E-819D-44A1-BC81-D2136E760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78000" y="418680"/>
            <a:ext cx="6805440" cy="173988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78000" y="2436840"/>
            <a:ext cx="3321000" cy="328608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5320" y="2436840"/>
            <a:ext cx="3321000" cy="328608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78000" y="6035400"/>
            <a:ext cx="3321000" cy="328608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65320" y="6035400"/>
            <a:ext cx="3321000" cy="328608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4EDD-DA29-4ABB-9F3E-877B87D03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78000" y="418680"/>
            <a:ext cx="6805440" cy="173988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78000" y="2436840"/>
            <a:ext cx="2190960" cy="328608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78760" y="2436840"/>
            <a:ext cx="2190960" cy="328608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79880" y="2436840"/>
            <a:ext cx="2190960" cy="328608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78000" y="6035400"/>
            <a:ext cx="2190960" cy="328608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78760" y="6035400"/>
            <a:ext cx="2190960" cy="328608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979880" y="6035400"/>
            <a:ext cx="2190960" cy="328608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AF61-156A-400C-B203-6CDFC4012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78000" y="418680"/>
            <a:ext cx="6805440" cy="173988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78000" y="2436840"/>
            <a:ext cx="6805440" cy="688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FAE2-E82A-49D0-8DF1-DAF031361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78000" y="418680"/>
            <a:ext cx="6805440" cy="173988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78000" y="2436840"/>
            <a:ext cx="6805440" cy="688968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8214-A786-4913-A65A-FADEF47B3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78000" y="418680"/>
            <a:ext cx="6805440" cy="173988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78000" y="2436840"/>
            <a:ext cx="3321000" cy="688968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65320" y="2436840"/>
            <a:ext cx="3321000" cy="688968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5BB5-9D76-45FF-9009-6FEC265A2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78000" y="418680"/>
            <a:ext cx="6805440" cy="173988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526B-C2C2-4FD0-9ECB-DF6603C89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78000" y="418680"/>
            <a:ext cx="6805440" cy="806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0898-A2E8-48D9-86BA-01728F042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78000" y="418680"/>
            <a:ext cx="6805440" cy="173988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78000" y="2436840"/>
            <a:ext cx="3321000" cy="328608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65320" y="2436840"/>
            <a:ext cx="3321000" cy="688968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78000" y="6035400"/>
            <a:ext cx="3321000" cy="328608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93AC-FE8F-4B3D-98C8-69288A85B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78000" y="418680"/>
            <a:ext cx="6805440" cy="173988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78000" y="2436840"/>
            <a:ext cx="3321000" cy="688968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65320" y="2436840"/>
            <a:ext cx="3321000" cy="328608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65320" y="6035400"/>
            <a:ext cx="3321000" cy="328608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1B11-FB8E-4794-B066-90C781114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78000" y="418680"/>
            <a:ext cx="6805440" cy="173988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78000" y="2436840"/>
            <a:ext cx="3321000" cy="328608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65320" y="2436840"/>
            <a:ext cx="3321000" cy="328608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78000" y="6035400"/>
            <a:ext cx="6805440" cy="328608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74E0-6BF9-4600-8F71-CB2CE1649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78000" y="418680"/>
            <a:ext cx="6805440" cy="173988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78000" y="2436840"/>
            <a:ext cx="6805440" cy="688968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5920" indent="-38592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1" marL="836640" indent="-322200">
              <a:spcBef>
                <a:spcPts val="924"/>
              </a:spcBef>
              <a:buClr>
                <a:srgbClr val="000000"/>
              </a:buClr>
              <a:buFont typeface="Arial"/>
              <a:buChar char="–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2" marL="1285920" indent="-25704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3" marL="1800360" indent="-257400">
              <a:spcBef>
                <a:spcPts val="924"/>
              </a:spcBef>
              <a:buClr>
                <a:srgbClr val="000000"/>
              </a:buClr>
              <a:buFont typeface="Arial"/>
              <a:buChar char="–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4" marL="2314440" indent="-25704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5" marL="2314440" indent="-25704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6" marL="2314440" indent="-25704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77640" y="9507240"/>
            <a:ext cx="1765080" cy="7254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83000" y="9507240"/>
            <a:ext cx="2395440" cy="7254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18000" y="9507240"/>
            <a:ext cx="1765440" cy="7254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8078E-B8EB-4926-8A8D-26B415108566}" type="slidenum">
              <a:rPr b="0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53080" y="1144440"/>
            <a:ext cx="450720" cy="3002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"/>
              </a:rPr>
              <a:t>封面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1547640" y="1494000"/>
            <a:ext cx="4683240" cy="84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320" bIns="493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铂金公馆体验区景观设计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12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Arial"/>
              </a:rPr>
              <a:t>灯具选型资料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编制日期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DATE)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19-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423720" y="411120"/>
          <a:ext cx="6786720" cy="9428040"/>
        </p:xfrm>
        <a:graphic>
          <a:graphicData uri="http://schemas.openxmlformats.org/drawingml/2006/table">
            <a:tbl>
              <a:tblPr/>
              <a:tblGrid>
                <a:gridCol w="1427400"/>
                <a:gridCol w="2170080"/>
                <a:gridCol w="1528560"/>
                <a:gridCol w="1660680"/>
              </a:tblGrid>
              <a:tr h="549360">
                <a:tc>
                  <a:txBody>
                    <a:bodyPr lIns="104400" rIns="104400" tIns="50400" bIns="504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工程项目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PROJEC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4400" marR="1044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0" rIns="104400" tIns="50400" bIns="50400" anchor="ctr">
                      <a:noAutofit/>
                    </a:bodyPr>
                    <a:p>
                      <a:pPr marL="609480" indent="-609480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4400" marR="104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0" rIns="1044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灯具编号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COD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400" marR="104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2600" rIns="102600" tIns="51480" bIns="514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2600" marR="1026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104400" rIns="1044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灯具类别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TYPE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400" marR="1044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0" rIns="104400" tIns="50400" bIns="50400" anchor="ctr">
                      <a:noAutofit/>
                    </a:bodyPr>
                    <a:p>
                      <a:pPr marL="609480" indent="-609480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水下地埋灯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4400" marR="104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0" rIns="1044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灯具尺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DIMENS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400" marR="104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2600" rIns="102600" tIns="51480" bIns="514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直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50m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2600" marR="1026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104400" rIns="1044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配置光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LAMP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400" marR="1044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0" rIns="104400" tIns="50400" bIns="50400" anchor="ctr">
                      <a:noAutofit/>
                    </a:bodyPr>
                    <a:p>
                      <a:pPr marL="609480" indent="-609480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w LE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4400" marR="104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0" rIns="1044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防护等级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PROTEC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400" marR="104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2600" rIns="102600" tIns="51480" bIns="514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IP6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2600" marR="1026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104400" rIns="1044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光色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色温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LIGHT COLOU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400" marR="1044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0" rIns="104400" tIns="50400" bIns="50400" anchor="ctr">
                      <a:noAutofit/>
                    </a:bodyPr>
                    <a:p>
                      <a:pPr marL="609480" indent="-609480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暖黄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3000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4400" marR="104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0" rIns="1044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灯体颜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BODY COLOU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400" marR="104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2600" rIns="102600" tIns="51480" bIns="514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如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2600" marR="1026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104400" rIns="1044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光通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LUM.FLU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400" marR="1044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0" rIns="104400" tIns="50400" bIns="50400" anchor="ctr">
                      <a:noAutofit/>
                    </a:bodyPr>
                    <a:p>
                      <a:pPr marL="609480" indent="-609480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90LM/w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4400" marR="104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0" rIns="1044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工作电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VOLTAG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400" marR="104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2600" rIns="102600" tIns="51480" bIns="51480" anchor="ctr">
                      <a:noAutofit/>
                    </a:bodyPr>
                    <a:p>
                      <a:pPr marL="609480" indent="-609480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DC 12V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2600" marR="1026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0880">
                <a:tc>
                  <a:txBody>
                    <a:bodyPr lIns="104400" rIns="1044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灯具特性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CHARACT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400" marR="1044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104400" rIns="104400" tIns="50400" bIns="504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、不锈钢材质；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、适用于游泳池、人工湖、喷泉等装饰及照明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4400" marR="1044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96080">
                <a:tc gridSpan="4">
                  <a:txBody>
                    <a:bodyPr lIns="104400" rIns="1044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400" marR="1044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0880">
                <a:tc>
                  <a:txBody>
                    <a:bodyPr lIns="104400" rIns="1044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参考供应商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400" marR="1044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104400" rIns="104400" tIns="50400" bIns="504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4400" marR="1044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72" name="图片 1" descr=""/>
          <p:cNvPicPr/>
          <p:nvPr/>
        </p:nvPicPr>
        <p:blipFill>
          <a:blip r:embed="rId1"/>
          <a:stretch/>
        </p:blipFill>
        <p:spPr>
          <a:xfrm>
            <a:off x="2052720" y="3497400"/>
            <a:ext cx="2943000" cy="3714480"/>
          </a:xfrm>
          <a:prstGeom prst="rect">
            <a:avLst/>
          </a:prstGeom>
          <a:ln w="0">
            <a:noFill/>
          </a:ln>
        </p:spPr>
      </p:pic>
      <p:pic>
        <p:nvPicPr>
          <p:cNvPr id="73" name="图片 2" descr=""/>
          <p:cNvPicPr/>
          <p:nvPr/>
        </p:nvPicPr>
        <p:blipFill>
          <a:blip r:embed="rId2"/>
          <a:stretch/>
        </p:blipFill>
        <p:spPr>
          <a:xfrm>
            <a:off x="351000" y="5869080"/>
            <a:ext cx="648144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423720" y="411120"/>
          <a:ext cx="6786720" cy="9402840"/>
        </p:xfrm>
        <a:graphic>
          <a:graphicData uri="http://schemas.openxmlformats.org/drawingml/2006/table">
            <a:tbl>
              <a:tblPr/>
              <a:tblGrid>
                <a:gridCol w="1427400"/>
                <a:gridCol w="2170080"/>
                <a:gridCol w="1528560"/>
                <a:gridCol w="1660680"/>
              </a:tblGrid>
              <a:tr h="549360">
                <a:tc>
                  <a:txBody>
                    <a:bodyPr lIns="104400" rIns="104400" tIns="50400" bIns="504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工程项目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PROJEC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4400" marR="1044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0" rIns="104400" tIns="50400" bIns="50400" anchor="ctr">
                      <a:noAutofit/>
                    </a:bodyPr>
                    <a:p>
                      <a:pPr marL="609480" indent="-609480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4400" marR="104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0" rIns="1044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灯具编号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COD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400" marR="104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2600" rIns="102600" tIns="51480" bIns="514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2600" marR="1026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104400" rIns="1044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灯具类别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TYPE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400" marR="1044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0" rIns="104400" tIns="50400" bIns="50400" anchor="ctr">
                      <a:noAutofit/>
                    </a:bodyPr>
                    <a:p>
                      <a:pPr marL="609480" indent="-609480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室外音箱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4400" marR="104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0" rIns="1044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灯具尺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DIMENS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400" marR="104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2600" rIns="102600" tIns="51480" bIns="514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图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2600" marR="1026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0880">
                <a:tc>
                  <a:txBody>
                    <a:bodyPr lIns="104400" rIns="1044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配置光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LAMP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400" marR="1044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0" rIns="104400" tIns="50400" bIns="50400" anchor="ctr">
                      <a:noAutofit/>
                    </a:bodyPr>
                    <a:p>
                      <a:pPr marL="609480" indent="-609480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5w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4400" marR="104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0" rIns="1044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防护等级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PROTEC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400" marR="104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2600" rIns="102600" tIns="51480" bIns="514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IP6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2600" marR="1026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104400" rIns="1044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光色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色温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LIGHT COLOU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400" marR="1044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0" rIns="104400" tIns="50400" bIns="50400" anchor="ctr">
                      <a:noAutofit/>
                    </a:bodyPr>
                    <a:p>
                      <a:pPr marL="609480" indent="-609480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4400" marR="104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0" rIns="1044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灯体颜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BODY COLOU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400" marR="104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2600" rIns="102600" tIns="51480" bIns="514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如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2600" marR="1026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240">
                <a:tc>
                  <a:txBody>
                    <a:bodyPr lIns="104400" rIns="1044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光通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LUM.FLU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400" marR="1044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0" rIns="104400" tIns="50400" bIns="50400" anchor="ctr">
                      <a:noAutofit/>
                    </a:bodyPr>
                    <a:p>
                      <a:pPr marL="609480" indent="-609480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90LM/w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4400" marR="104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0" rIns="1044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工作电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VOLTAG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400" marR="104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2600" rIns="102600" tIns="51480" bIns="51480" anchor="ctr">
                      <a:noAutofit/>
                    </a:bodyPr>
                    <a:p>
                      <a:pPr marL="609480" indent="-609480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10V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2600" marR="1026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0880">
                <a:tc>
                  <a:txBody>
                    <a:bodyPr lIns="104400" rIns="1044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灯具特性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CHARACT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400" marR="1044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104400" rIns="104400" tIns="50400" bIns="504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、高压铸铝外壳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、重量轻、体积小、灯具电器一体化，密封性好，坚固耐用；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4400" marR="1044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95720">
                <a:tc gridSpan="4">
                  <a:txBody>
                    <a:bodyPr lIns="104400" rIns="1044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400" marR="1044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0880">
                <a:tc>
                  <a:txBody>
                    <a:bodyPr lIns="104400" rIns="1044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参考供应商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400" marR="1044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104400" rIns="104400" tIns="50400" bIns="504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4400" marR="1044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75" name="图片 3" descr=""/>
          <p:cNvPicPr/>
          <p:nvPr/>
        </p:nvPicPr>
        <p:blipFill>
          <a:blip r:embed="rId1"/>
          <a:stretch/>
        </p:blipFill>
        <p:spPr>
          <a:xfrm>
            <a:off x="1177920" y="4614840"/>
            <a:ext cx="5680080" cy="32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539640" y="576360"/>
          <a:ext cx="6553440" cy="9266040"/>
        </p:xfrm>
        <a:graphic>
          <a:graphicData uri="http://schemas.openxmlformats.org/drawingml/2006/table">
            <a:tbl>
              <a:tblPr/>
              <a:tblGrid>
                <a:gridCol w="1378080"/>
                <a:gridCol w="2095560"/>
                <a:gridCol w="1476360"/>
                <a:gridCol w="1603440"/>
              </a:tblGrid>
              <a:tr h="530280">
                <a:tc>
                  <a:txBody>
                    <a:bodyPr lIns="100800" rIns="100800" tIns="48600" bIns="486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工程项目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PROJEC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0800" marR="100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48600" bIns="48600" anchor="ctr">
                      <a:noAutofit/>
                    </a:bodyPr>
                    <a:p>
                      <a:pPr marL="609480" indent="-609480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0800" marR="10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48600" bIns="48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灯具编号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COD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9360" rIns="99360" tIns="49680" bIns="49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360" marR="99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160">
                <a:tc>
                  <a:txBody>
                    <a:bodyPr lIns="100800" rIns="100800" tIns="48600" bIns="48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灯具类别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TYPE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48600" bIns="48600" anchor="ctr">
                      <a:noAutofit/>
                    </a:bodyPr>
                    <a:p>
                      <a:pPr marL="609480" indent="-609480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草坪灯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0800" marR="10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48600" bIns="48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灯具尺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DIMENS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9360" rIns="99360" tIns="49680" bIns="49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360" marR="99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100800" rIns="100800" tIns="48600" bIns="48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配置光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LAMP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48600" bIns="48600" anchor="ctr">
                      <a:noAutofit/>
                    </a:bodyPr>
                    <a:p>
                      <a:pPr marL="609480" indent="-609480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5W LE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0800" marR="10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48600" bIns="48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防护等级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PROTEC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9360" rIns="99360" tIns="49680" bIns="49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IP6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360" marR="99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100800" rIns="100800" tIns="48600" bIns="48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光色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色温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LIGHT COLOU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48600" bIns="48600" anchor="ctr">
                      <a:noAutofit/>
                    </a:bodyPr>
                    <a:p>
                      <a:pPr marL="609480" indent="-609480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暖白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3000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0800" marR="10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48600" bIns="48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灯体颜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BODY COLOU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9360" rIns="99360" tIns="49680" bIns="496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黑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360" marR="99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100800" rIns="100800" tIns="48600" bIns="48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光通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LUM.FLU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48600" bIns="48600" anchor="ctr">
                      <a:noAutofit/>
                    </a:bodyPr>
                    <a:p>
                      <a:pPr marL="609480" indent="-609480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90LM/w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0800" marR="10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0800" rIns="100800" tIns="48600" bIns="48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工作电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VOLTAG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9360" rIns="99360" tIns="49680" bIns="49680" anchor="ctr">
                      <a:noAutofit/>
                    </a:bodyPr>
                    <a:p>
                      <a:pPr marL="609480" indent="-609480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AC 220V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9360" marR="993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1920">
                <a:tc>
                  <a:txBody>
                    <a:bodyPr lIns="100800" rIns="100800" tIns="48600" bIns="48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灯具特性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CHARACT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100800" rIns="100800" tIns="48600" bIns="486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.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强防腐挤压铝型材及高压铸铝灯体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.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户外静电塑粉涂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.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适用于小区、公园、庭院的道路照明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0800" marR="1008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95560">
                <a:tc gridSpan="4">
                  <a:txBody>
                    <a:bodyPr lIns="100800" rIns="100800" tIns="48600" bIns="48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7280">
                <a:tc>
                  <a:txBody>
                    <a:bodyPr lIns="100800" rIns="100800" tIns="48600" bIns="48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参考供应商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0800" marR="1008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100800" rIns="100800" tIns="48600" bIns="486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0800" marR="1008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44" name="图片 2" descr=""/>
          <p:cNvPicPr/>
          <p:nvPr/>
        </p:nvPicPr>
        <p:blipFill>
          <a:blip r:embed="rId1"/>
          <a:stretch/>
        </p:blipFill>
        <p:spPr>
          <a:xfrm>
            <a:off x="447840" y="4140360"/>
            <a:ext cx="6397560" cy="43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423720" y="411120"/>
          <a:ext cx="6786720" cy="10104480"/>
        </p:xfrm>
        <a:graphic>
          <a:graphicData uri="http://schemas.openxmlformats.org/drawingml/2006/table">
            <a:tbl>
              <a:tblPr/>
              <a:tblGrid>
                <a:gridCol w="1427400"/>
                <a:gridCol w="2170080"/>
                <a:gridCol w="1528560"/>
                <a:gridCol w="1660680"/>
              </a:tblGrid>
              <a:tr h="549360">
                <a:tc>
                  <a:txBody>
                    <a:bodyPr lIns="104400" rIns="104400" tIns="50400" bIns="504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工程项目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PROJEC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4400" marR="1044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0" rIns="104400" tIns="50400" bIns="50400" anchor="ctr">
                      <a:noAutofit/>
                    </a:bodyPr>
                    <a:p>
                      <a:pPr marL="609480" indent="-609480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4400" marR="104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0" rIns="1044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灯具编号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COD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400" marR="104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2600" rIns="102600" tIns="51480" bIns="514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2600" marR="1026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104400" rIns="1044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灯具类别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TYPE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400" marR="1044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0" rIns="104400" tIns="50400" bIns="50400" anchor="ctr">
                      <a:noAutofit/>
                    </a:bodyPr>
                    <a:p>
                      <a:pPr marL="609480" indent="-609480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插泥地灯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4400" marR="104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0" rIns="1044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灯具尺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DIMENS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400" marR="104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2600" rIns="102600" tIns="51480" bIns="514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如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2600" marR="1026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104400" rIns="1044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配置光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LAMP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400" marR="1044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0" rIns="104400" tIns="50400" bIns="50400" anchor="ctr">
                      <a:noAutofit/>
                    </a:bodyPr>
                    <a:p>
                      <a:pPr marL="609480" indent="-609480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0W PAR3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4400" marR="104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0" rIns="1044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防护等级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PROTEC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400" marR="104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2600" rIns="102600" tIns="51480" bIns="514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IP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2600" marR="1026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104400" rIns="1044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光色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色温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LIGHT COLOU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400" marR="1044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0" rIns="104400" tIns="50400" bIns="50400" anchor="ctr">
                      <a:noAutofit/>
                    </a:bodyPr>
                    <a:p>
                      <a:pPr marL="609480" indent="-609480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暖黄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3000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4400" marR="104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0" rIns="1044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灯体颜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BODY COLOU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400" marR="104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2600" rIns="102600" tIns="51480" bIns="514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深灰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2600" marR="1026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104400" rIns="1044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光通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LUM.FLU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400" marR="1044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0" rIns="104400" tIns="50400" bIns="50400" anchor="ctr">
                      <a:noAutofit/>
                    </a:bodyPr>
                    <a:p>
                      <a:pPr marL="609480" indent="-609480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70LM/w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4400" marR="104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0" rIns="1044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工作电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VOLTAG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400" marR="104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2600" rIns="102600" tIns="51480" bIns="51480" anchor="ctr">
                      <a:noAutofit/>
                    </a:bodyPr>
                    <a:p>
                      <a:pPr marL="609480" indent="-609480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AC 220V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2600" marR="1026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76240">
                <a:tc>
                  <a:txBody>
                    <a:bodyPr lIns="104400" rIns="1044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灯具特性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CHARACT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400" marR="1044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104400" rIns="104400" tIns="50400" bIns="504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灯体材质：压铸铝合金，表面光洁，无砂眼，无裂隙等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灯具尺寸：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40*225*460MM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光源配置：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E27  PAR38/75W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透光罩：透明钢化玻璃，无杂质，耐高温，抗冲击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反光杯：阳极氧化高纯度铝反光杯，反射性能好，抗老化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紧固件：灯体外观采用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04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不锈钢螺丝固定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密封圈：硅胶密封，防尘防水性能好，耐高温，抗老化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产品描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防护等级：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IP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防护喷涂：户外专用塑粉，采用静电喷涂工艺，耐腐蚀，抗老化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4400" marR="1044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67160">
                <a:tc gridSpan="4">
                  <a:txBody>
                    <a:bodyPr lIns="104400" rIns="1044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400" marR="1044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0880">
                <a:tc>
                  <a:txBody>
                    <a:bodyPr lIns="104400" rIns="1044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参考供应商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400" marR="1044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104400" rIns="104400" tIns="50400" bIns="504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4400" marR="1044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46" name="图片 7" descr=""/>
          <p:cNvPicPr/>
          <p:nvPr/>
        </p:nvPicPr>
        <p:blipFill>
          <a:blip r:embed="rId1"/>
          <a:stretch/>
        </p:blipFill>
        <p:spPr>
          <a:xfrm>
            <a:off x="1887480" y="4788000"/>
            <a:ext cx="4202280" cy="52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423720" y="411120"/>
          <a:ext cx="6786720" cy="9428040"/>
        </p:xfrm>
        <a:graphic>
          <a:graphicData uri="http://schemas.openxmlformats.org/drawingml/2006/table">
            <a:tbl>
              <a:tblPr/>
              <a:tblGrid>
                <a:gridCol w="1427400"/>
                <a:gridCol w="2170080"/>
                <a:gridCol w="1528560"/>
                <a:gridCol w="1660680"/>
              </a:tblGrid>
              <a:tr h="549360">
                <a:tc>
                  <a:txBody>
                    <a:bodyPr lIns="104400" rIns="104400" tIns="50400" bIns="504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工程项目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PROJEC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4400" marR="1044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0" rIns="104400" tIns="50400" bIns="50400" anchor="ctr">
                      <a:noAutofit/>
                    </a:bodyPr>
                    <a:p>
                      <a:pPr marL="609480" indent="-609480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4400" marR="104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0" rIns="1044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灯具编号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COD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400" marR="104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2600" rIns="102600" tIns="51480" bIns="514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2600" marR="1026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104400" rIns="1044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灯具类别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TYPE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400" marR="1044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0" rIns="104400" tIns="50400" bIns="50400" anchor="ctr">
                      <a:noAutofit/>
                    </a:bodyPr>
                    <a:p>
                      <a:pPr marL="609480" indent="-609480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侧壁发光灯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4400" marR="104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0" rIns="1044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灯具尺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DIMENS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400" marR="104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2600" rIns="102600" tIns="51480" bIns="514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直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2m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2600" marR="1026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104400" rIns="1044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配置光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LAMP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400" marR="1044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0" rIns="104400" tIns="50400" bIns="50400" anchor="ctr">
                      <a:noAutofit/>
                    </a:bodyPr>
                    <a:p>
                      <a:pPr marL="609480" indent="-609480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w  LE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4400" marR="104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0" rIns="1044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防护等级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PROTEC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400" marR="104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2600" rIns="102600" tIns="51480" bIns="514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IP6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2600" marR="1026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104400" rIns="1044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光色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色温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LIGHT COLOU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400" marR="1044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0" rIns="104400" tIns="50400" bIns="50400" anchor="ctr">
                      <a:noAutofit/>
                    </a:bodyPr>
                    <a:p>
                      <a:pPr marL="609480" indent="-609480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暖黄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3000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4400" marR="104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0" rIns="1044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灯体颜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BODY COLOU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400" marR="104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2600" rIns="102600" tIns="51480" bIns="514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如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2600" marR="1026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104400" rIns="1044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光通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LUM.FLU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400" marR="1044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0" rIns="104400" tIns="50400" bIns="50400" anchor="ctr">
                      <a:noAutofit/>
                    </a:bodyPr>
                    <a:p>
                      <a:pPr marL="609480" indent="-609480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90LM/w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4400" marR="104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0" rIns="1044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工作电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VOLTAG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400" marR="104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2600" rIns="102600" tIns="51480" bIns="51480" anchor="ctr">
                      <a:noAutofit/>
                    </a:bodyPr>
                    <a:p>
                      <a:pPr marL="609480" indent="-609480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DC24V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2600" marR="1026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0880">
                <a:tc>
                  <a:txBody>
                    <a:bodyPr lIns="104400" rIns="1044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灯具特性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CHARACT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400" marR="1044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104400" rIns="104400" tIns="50400" bIns="504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、高压铸铝外壳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、重量轻、体积小、灯具电器一体化，密封性好，坚固耐用；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4400" marR="1044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96080">
                <a:tc gridSpan="4">
                  <a:txBody>
                    <a:bodyPr lIns="104400" rIns="1044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400" marR="1044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0880">
                <a:tc>
                  <a:txBody>
                    <a:bodyPr lIns="104400" rIns="1044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参考供应商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400" marR="1044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104400" rIns="104400" tIns="50400" bIns="504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4400" marR="1044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53200" y="576360"/>
            <a:ext cx="954000" cy="24768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图片 1" descr=""/>
          <p:cNvPicPr/>
          <p:nvPr/>
        </p:nvPicPr>
        <p:blipFill>
          <a:blip r:embed="rId1"/>
          <a:stretch/>
        </p:blipFill>
        <p:spPr>
          <a:xfrm>
            <a:off x="1046160" y="4284720"/>
            <a:ext cx="5549760" cy="4041720"/>
          </a:xfrm>
          <a:prstGeom prst="rect">
            <a:avLst/>
          </a:prstGeom>
          <a:ln w="0">
            <a:noFill/>
          </a:ln>
        </p:spPr>
      </p:pic>
      <p:sp>
        <p:nvSpPr>
          <p:cNvPr id="50" name="矩形 1"/>
          <p:cNvSpPr/>
          <p:nvPr/>
        </p:nvSpPr>
        <p:spPr>
          <a:xfrm>
            <a:off x="3492360" y="4764240"/>
            <a:ext cx="873360" cy="13204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423720" y="411120"/>
          <a:ext cx="6786720" cy="9428040"/>
        </p:xfrm>
        <a:graphic>
          <a:graphicData uri="http://schemas.openxmlformats.org/drawingml/2006/table">
            <a:tbl>
              <a:tblPr/>
              <a:tblGrid>
                <a:gridCol w="1427400"/>
                <a:gridCol w="2170080"/>
                <a:gridCol w="1528560"/>
                <a:gridCol w="1660680"/>
              </a:tblGrid>
              <a:tr h="549360">
                <a:tc>
                  <a:txBody>
                    <a:bodyPr lIns="104400" rIns="104400" tIns="50400" bIns="504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工程项目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PROJEC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4400" marR="1044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0" rIns="104400" tIns="50400" bIns="50400" anchor="ctr">
                      <a:noAutofit/>
                    </a:bodyPr>
                    <a:p>
                      <a:pPr marL="609480" indent="-609480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4400" marR="104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0" rIns="1044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灯具编号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COD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400" marR="104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2600" rIns="102600" tIns="51480" bIns="514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2600" marR="1026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104400" rIns="1044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灯具类别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TYPE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400" marR="1044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0" rIns="104400" tIns="50400" bIns="50400" anchor="ctr">
                      <a:noAutofit/>
                    </a:bodyPr>
                    <a:p>
                      <a:pPr marL="609480" indent="-609480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壁灯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4400" marR="104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0" rIns="1044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灯具尺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DIMENS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400" marR="104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2600" rIns="102600" tIns="51480" bIns="514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2600" marR="1026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104400" rIns="1044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配置光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LAMP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400" marR="1044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0" rIns="104400" tIns="50400" bIns="50400" anchor="ctr">
                      <a:noAutofit/>
                    </a:bodyPr>
                    <a:p>
                      <a:pPr marL="609480" indent="-609480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5w LE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4400" marR="104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0" rIns="1044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防护等级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PROTEC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400" marR="104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2600" rIns="102600" tIns="51480" bIns="514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IP5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2600" marR="1026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104400" rIns="1044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光色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色温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LIGHT COLOU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400" marR="1044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0" rIns="104400" tIns="50400" bIns="50400" anchor="ctr">
                      <a:noAutofit/>
                    </a:bodyPr>
                    <a:p>
                      <a:pPr marL="609480" indent="-609480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暖黄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3000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4400" marR="104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0" rIns="1044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灯体颜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BODY COLOU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400" marR="104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2600" rIns="102600" tIns="51480" bIns="514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深咖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2600" marR="1026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104400" rIns="1044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光通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LUM.FLU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400" marR="1044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0" rIns="104400" tIns="50400" bIns="50400" anchor="ctr">
                      <a:noAutofit/>
                    </a:bodyPr>
                    <a:p>
                      <a:pPr marL="609480" indent="-609480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90LM/w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4400" marR="104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0" rIns="1044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工作电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VOLTAG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400" marR="104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2600" rIns="102600" tIns="51480" bIns="51480" anchor="ctr">
                      <a:noAutofit/>
                    </a:bodyPr>
                    <a:p>
                      <a:pPr marL="609480" indent="-609480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AC 220V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2600" marR="1026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0880">
                <a:tc>
                  <a:txBody>
                    <a:bodyPr lIns="104400" rIns="1044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灯具特性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CHARACT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400" marR="1044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104400" rIns="104400" tIns="50400" bIns="504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.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定制灯具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56*400*60mm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厚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4400" marR="1044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96080">
                <a:tc gridSpan="4">
                  <a:txBody>
                    <a:bodyPr lIns="104400" rIns="1044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400" marR="1044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0880">
                <a:tc>
                  <a:txBody>
                    <a:bodyPr lIns="104400" rIns="1044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参考供应商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400" marR="1044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104400" rIns="104400" tIns="50400" bIns="504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4400" marR="1044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53200" y="576360"/>
            <a:ext cx="954000" cy="24768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图片 1" descr=""/>
          <p:cNvPicPr/>
          <p:nvPr/>
        </p:nvPicPr>
        <p:blipFill>
          <a:blip r:embed="rId1"/>
          <a:stretch/>
        </p:blipFill>
        <p:spPr>
          <a:xfrm>
            <a:off x="1116000" y="4572000"/>
            <a:ext cx="2160720" cy="4008600"/>
          </a:xfrm>
          <a:prstGeom prst="rect">
            <a:avLst/>
          </a:prstGeom>
          <a:ln w="0">
            <a:noFill/>
          </a:ln>
        </p:spPr>
      </p:pic>
      <p:pic>
        <p:nvPicPr>
          <p:cNvPr id="54" name="图片 2" descr=""/>
          <p:cNvPicPr/>
          <p:nvPr/>
        </p:nvPicPr>
        <p:blipFill>
          <a:blip r:embed="rId2"/>
          <a:stretch/>
        </p:blipFill>
        <p:spPr>
          <a:xfrm>
            <a:off x="3629160" y="4716360"/>
            <a:ext cx="3228840" cy="33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423720" y="411120"/>
          <a:ext cx="6786720" cy="9428040"/>
        </p:xfrm>
        <a:graphic>
          <a:graphicData uri="http://schemas.openxmlformats.org/drawingml/2006/table">
            <a:tbl>
              <a:tblPr/>
              <a:tblGrid>
                <a:gridCol w="1427400"/>
                <a:gridCol w="2170080"/>
                <a:gridCol w="1528560"/>
                <a:gridCol w="1660680"/>
              </a:tblGrid>
              <a:tr h="549360">
                <a:tc>
                  <a:txBody>
                    <a:bodyPr lIns="104400" rIns="104400" tIns="50400" bIns="504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工程项目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PROJEC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4400" marR="1044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0" rIns="104400" tIns="50400" bIns="50400" anchor="ctr">
                      <a:noAutofit/>
                    </a:bodyPr>
                    <a:p>
                      <a:pPr marL="609480" indent="-609480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4400" marR="104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0" rIns="1044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灯具编号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COD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400" marR="104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2600" rIns="102600" tIns="51480" bIns="514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2600" marR="1026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104400" rIns="1044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灯具类别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TYPE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400" marR="1044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0" rIns="104400" tIns="50400" bIns="50400" anchor="ctr">
                      <a:noAutofit/>
                    </a:bodyPr>
                    <a:p>
                      <a:pPr marL="609480" indent="-609480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壁灯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4400" marR="104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0" rIns="1044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灯具尺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DIMENS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400" marR="104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2600" rIns="102600" tIns="51480" bIns="514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H=2275m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2600" marR="1026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104400" rIns="1044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配置光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LAMP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400" marR="1044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0" rIns="104400" tIns="50400" bIns="50400" anchor="ctr">
                      <a:noAutofit/>
                    </a:bodyPr>
                    <a:p>
                      <a:pPr marL="609480" indent="-609480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5w LE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4400" marR="104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0" rIns="1044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防护等级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PROTEC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400" marR="104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2600" rIns="102600" tIns="51480" bIns="514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IP5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2600" marR="1026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104400" rIns="1044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光色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色温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LIGHT COLOU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400" marR="1044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0" rIns="104400" tIns="50400" bIns="50400" anchor="ctr">
                      <a:noAutofit/>
                    </a:bodyPr>
                    <a:p>
                      <a:pPr marL="609480" indent="-609480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暖黄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3000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4400" marR="104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0" rIns="1044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灯体颜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BODY COLOU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400" marR="104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2600" rIns="102600" tIns="51480" bIns="514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深咖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2600" marR="1026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104400" rIns="1044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光通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LUM.FLU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400" marR="1044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0" rIns="104400" tIns="50400" bIns="50400" anchor="ctr">
                      <a:noAutofit/>
                    </a:bodyPr>
                    <a:p>
                      <a:pPr marL="609480" indent="-609480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90LM/w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4400" marR="104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0" rIns="1044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工作电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VOLTAG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400" marR="104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2600" rIns="102600" tIns="51480" bIns="51480" anchor="ctr">
                      <a:noAutofit/>
                    </a:bodyPr>
                    <a:p>
                      <a:pPr marL="609480" indent="-609480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AC 220V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2600" marR="1026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0880">
                <a:tc>
                  <a:txBody>
                    <a:bodyPr lIns="104400" rIns="1044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灯具特性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CHARACT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400" marR="1044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104400" rIns="104400" tIns="50400" bIns="504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.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成品采购、深咖啡色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+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黄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4400" marR="1044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96080">
                <a:tc gridSpan="4">
                  <a:txBody>
                    <a:bodyPr lIns="104400" rIns="1044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400" marR="1044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0880">
                <a:tc>
                  <a:txBody>
                    <a:bodyPr lIns="104400" rIns="1044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参考供应商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400" marR="1044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104400" rIns="104400" tIns="50400" bIns="504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4400" marR="1044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53200" y="576360"/>
            <a:ext cx="954000" cy="24768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图片 3" descr=""/>
          <p:cNvPicPr/>
          <p:nvPr/>
        </p:nvPicPr>
        <p:blipFill>
          <a:blip r:embed="rId1"/>
          <a:stretch/>
        </p:blipFill>
        <p:spPr>
          <a:xfrm>
            <a:off x="1547640" y="4140360"/>
            <a:ext cx="1513080" cy="4735440"/>
          </a:xfrm>
          <a:prstGeom prst="rect">
            <a:avLst/>
          </a:prstGeom>
          <a:ln w="0">
            <a:noFill/>
          </a:ln>
        </p:spPr>
      </p:pic>
      <p:pic>
        <p:nvPicPr>
          <p:cNvPr id="58" name="图片 4" descr=""/>
          <p:cNvPicPr/>
          <p:nvPr/>
        </p:nvPicPr>
        <p:blipFill>
          <a:blip r:embed="rId2"/>
          <a:stretch/>
        </p:blipFill>
        <p:spPr>
          <a:xfrm>
            <a:off x="3637080" y="3995640"/>
            <a:ext cx="1368360" cy="49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23720" y="411120"/>
          <a:ext cx="6786720" cy="9428040"/>
        </p:xfrm>
        <a:graphic>
          <a:graphicData uri="http://schemas.openxmlformats.org/drawingml/2006/table">
            <a:tbl>
              <a:tblPr/>
              <a:tblGrid>
                <a:gridCol w="1427400"/>
                <a:gridCol w="2170080"/>
                <a:gridCol w="1528560"/>
                <a:gridCol w="1660680"/>
              </a:tblGrid>
              <a:tr h="549360">
                <a:tc>
                  <a:txBody>
                    <a:bodyPr lIns="104400" rIns="104400" tIns="50400" bIns="504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工程项目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PROJEC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4400" marR="1044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0" rIns="104400" tIns="50400" bIns="50400" anchor="ctr">
                      <a:noAutofit/>
                    </a:bodyPr>
                    <a:p>
                      <a:pPr marL="609480" indent="-609480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4400" marR="104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0" rIns="1044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灯具编号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COD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400" marR="104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2600" rIns="102600" tIns="51480" bIns="514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2600" marR="1026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104400" rIns="1044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灯具类别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TYPE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400" marR="1044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0" rIns="104400" tIns="50400" bIns="50400" anchor="ctr">
                      <a:noAutofit/>
                    </a:bodyPr>
                    <a:p>
                      <a:pPr marL="609480" indent="-609480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壁灯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4400" marR="104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0" rIns="1044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灯具尺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DIMENS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400" marR="104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2600" rIns="102600" tIns="51480" bIns="514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2600" marR="1026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104400" rIns="1044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配置光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LAMP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400" marR="1044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0" rIns="104400" tIns="50400" bIns="50400" anchor="ctr">
                      <a:noAutofit/>
                    </a:bodyPr>
                    <a:p>
                      <a:pPr marL="609480" indent="-609480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5w LE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4400" marR="104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0" rIns="1044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防护等级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PROTEC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400" marR="104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2600" rIns="102600" tIns="51480" bIns="514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IP5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2600" marR="1026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104400" rIns="1044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光色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色温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LIGHT COLOU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400" marR="1044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0" rIns="104400" tIns="50400" bIns="50400" anchor="ctr">
                      <a:noAutofit/>
                    </a:bodyPr>
                    <a:p>
                      <a:pPr marL="609480" indent="-609480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暖黄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3000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4400" marR="104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0" rIns="1044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灯体颜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BODY COLOU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400" marR="104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2600" rIns="102600" tIns="51480" bIns="514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深咖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2600" marR="1026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104400" rIns="1044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光通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LUM.FLU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400" marR="1044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0" rIns="104400" tIns="50400" bIns="50400" anchor="ctr">
                      <a:noAutofit/>
                    </a:bodyPr>
                    <a:p>
                      <a:pPr marL="609480" indent="-609480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90LM/w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4400" marR="104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0" rIns="1044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工作电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VOLTAG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400" marR="104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2600" rIns="102600" tIns="51480" bIns="51480" anchor="ctr">
                      <a:noAutofit/>
                    </a:bodyPr>
                    <a:p>
                      <a:pPr marL="609480" indent="-609480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AC 220V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2600" marR="1026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0880">
                <a:tc>
                  <a:txBody>
                    <a:bodyPr lIns="104400" rIns="1044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灯具特性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CHARACT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400" marR="1044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104400" rIns="104400" tIns="50400" bIns="504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.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定制灯具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53*120mm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厚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4400" marR="1044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96080">
                <a:tc gridSpan="4">
                  <a:txBody>
                    <a:bodyPr lIns="104400" rIns="1044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400" marR="1044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0880">
                <a:tc>
                  <a:txBody>
                    <a:bodyPr lIns="104400" rIns="1044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参考供应商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400" marR="1044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104400" rIns="104400" tIns="50400" bIns="504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4400" marR="1044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53200" y="576360"/>
            <a:ext cx="954000" cy="24768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图片 3" descr=""/>
          <p:cNvPicPr/>
          <p:nvPr/>
        </p:nvPicPr>
        <p:blipFill>
          <a:blip r:embed="rId1"/>
          <a:stretch/>
        </p:blipFill>
        <p:spPr>
          <a:xfrm>
            <a:off x="1476360" y="4788000"/>
            <a:ext cx="1447920" cy="3905280"/>
          </a:xfrm>
          <a:prstGeom prst="rect">
            <a:avLst/>
          </a:prstGeom>
          <a:ln w="0">
            <a:noFill/>
          </a:ln>
        </p:spPr>
      </p:pic>
      <p:pic>
        <p:nvPicPr>
          <p:cNvPr id="62" name="图片 4" descr=""/>
          <p:cNvPicPr/>
          <p:nvPr/>
        </p:nvPicPr>
        <p:blipFill>
          <a:blip r:embed="rId2"/>
          <a:stretch/>
        </p:blipFill>
        <p:spPr>
          <a:xfrm>
            <a:off x="3780000" y="4716360"/>
            <a:ext cx="141912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423720" y="411120"/>
          <a:ext cx="6786720" cy="9428040"/>
        </p:xfrm>
        <a:graphic>
          <a:graphicData uri="http://schemas.openxmlformats.org/drawingml/2006/table">
            <a:tbl>
              <a:tblPr/>
              <a:tblGrid>
                <a:gridCol w="1427400"/>
                <a:gridCol w="2170080"/>
                <a:gridCol w="1528560"/>
                <a:gridCol w="1660680"/>
              </a:tblGrid>
              <a:tr h="549360">
                <a:tc>
                  <a:txBody>
                    <a:bodyPr lIns="104400" rIns="104400" tIns="50400" bIns="504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工程项目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PROJEC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4400" marR="1044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0" rIns="104400" tIns="50400" bIns="50400" anchor="ctr">
                      <a:noAutofit/>
                    </a:bodyPr>
                    <a:p>
                      <a:pPr marL="609480" indent="-609480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4400" marR="104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0" rIns="1044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灯具编号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COD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400" marR="104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2600" rIns="102600" tIns="51480" bIns="514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2600" marR="1026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104400" rIns="1044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灯具类别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TYPE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400" marR="1044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0" rIns="104400" tIns="50400" bIns="50400" anchor="ctr">
                      <a:noAutofit/>
                    </a:bodyPr>
                    <a:p>
                      <a:pPr marL="609480" indent="-609480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水下射灯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4400" marR="104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0" rIns="1044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灯具尺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DIMENS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400" marR="104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2600" rIns="102600" tIns="51480" bIns="514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直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60m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2600" marR="1026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104400" rIns="1044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配置光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LAMP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400" marR="1044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0" rIns="104400" tIns="50400" bIns="50400" anchor="ctr">
                      <a:noAutofit/>
                    </a:bodyPr>
                    <a:p>
                      <a:pPr marL="609480" indent="-609480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2w LE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4400" marR="104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0" rIns="1044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防护等级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PROTEC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400" marR="104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2600" rIns="102600" tIns="51480" bIns="514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IP6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2600" marR="1026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104400" rIns="1044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光色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色温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LIGHT COLOU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400" marR="1044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0" rIns="104400" tIns="50400" bIns="50400" anchor="ctr">
                      <a:noAutofit/>
                    </a:bodyPr>
                    <a:p>
                      <a:pPr marL="609480" indent="-609480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暖黄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3000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4400" marR="104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0" rIns="1044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灯体颜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BODY COLOU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400" marR="104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2600" rIns="102600" tIns="51480" bIns="514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如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2600" marR="1026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104400" rIns="1044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光通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LUM.FLU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400" marR="1044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0" rIns="104400" tIns="50400" bIns="50400" anchor="ctr">
                      <a:noAutofit/>
                    </a:bodyPr>
                    <a:p>
                      <a:pPr marL="609480" indent="-609480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90LM/w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4400" marR="104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0" rIns="1044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工作电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VOLTAG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400" marR="104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2600" rIns="102600" tIns="51480" bIns="51480" anchor="ctr">
                      <a:noAutofit/>
                    </a:bodyPr>
                    <a:p>
                      <a:pPr marL="609480" indent="-609480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DC 12V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2600" marR="1026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0880">
                <a:tc>
                  <a:txBody>
                    <a:bodyPr lIns="104400" rIns="1044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灯具特性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CHARACT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400" marR="1044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104400" rIns="104400" tIns="50400" bIns="504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、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04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不锈钢材质；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、灯体内部灌胶，适用于游泳池、人工湖、喷泉等装饰及照明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4400" marR="1044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96080">
                <a:tc gridSpan="4">
                  <a:txBody>
                    <a:bodyPr lIns="104400" rIns="1044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400" marR="1044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0880">
                <a:tc>
                  <a:txBody>
                    <a:bodyPr lIns="104400" rIns="1044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参考供应商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400" marR="1044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104400" rIns="104400" tIns="50400" bIns="504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4400" marR="1044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53200" y="576360"/>
            <a:ext cx="954000" cy="24768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图片 4" descr=""/>
          <p:cNvPicPr/>
          <p:nvPr/>
        </p:nvPicPr>
        <p:blipFill>
          <a:blip r:embed="rId1"/>
          <a:stretch/>
        </p:blipFill>
        <p:spPr>
          <a:xfrm>
            <a:off x="2268360" y="3427560"/>
            <a:ext cx="2733840" cy="3294000"/>
          </a:xfrm>
          <a:prstGeom prst="rect">
            <a:avLst/>
          </a:prstGeom>
          <a:ln w="0">
            <a:noFill/>
          </a:ln>
        </p:spPr>
      </p:pic>
      <p:pic>
        <p:nvPicPr>
          <p:cNvPr id="66" name="图片 5" descr=""/>
          <p:cNvPicPr/>
          <p:nvPr/>
        </p:nvPicPr>
        <p:blipFill>
          <a:blip r:embed="rId2"/>
          <a:stretch/>
        </p:blipFill>
        <p:spPr>
          <a:xfrm>
            <a:off x="755640" y="6649920"/>
            <a:ext cx="4946760" cy="26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423720" y="411120"/>
          <a:ext cx="6786720" cy="9898200"/>
        </p:xfrm>
        <a:graphic>
          <a:graphicData uri="http://schemas.openxmlformats.org/drawingml/2006/table">
            <a:tbl>
              <a:tblPr/>
              <a:tblGrid>
                <a:gridCol w="1427400"/>
                <a:gridCol w="2170080"/>
                <a:gridCol w="1528560"/>
                <a:gridCol w="1660680"/>
              </a:tblGrid>
              <a:tr h="549360">
                <a:tc>
                  <a:txBody>
                    <a:bodyPr lIns="104400" rIns="104400" tIns="50400" bIns="504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工程项目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PROJEC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4400" marR="1044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0" rIns="104400" tIns="50400" bIns="50400" anchor="ctr">
                      <a:noAutofit/>
                    </a:bodyPr>
                    <a:p>
                      <a:pPr marL="609480" indent="-609480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4400" marR="104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0" rIns="1044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灯具编号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COD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400" marR="104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2600" rIns="102600" tIns="51480" bIns="514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2600" marR="1026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104400" rIns="1044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灯具类别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TYPE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400" marR="1044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0" rIns="104400" tIns="50400" bIns="50400" anchor="ctr">
                      <a:noAutofit/>
                    </a:bodyPr>
                    <a:p>
                      <a:pPr marL="609480" indent="-609480"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LED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柔性灯带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4400" marR="104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0" rIns="1044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灯具尺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DIMENS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400" marR="104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2600" rIns="102600" tIns="51480" bIns="514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图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2600" marR="1026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360">
                <a:tc>
                  <a:txBody>
                    <a:bodyPr lIns="104400" rIns="1044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配置光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LAMP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400" marR="1044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0" rIns="104400" tIns="50400" bIns="50400" anchor="ctr">
                      <a:noAutofit/>
                    </a:bodyPr>
                    <a:p>
                      <a:pPr marL="609480" indent="-609480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0w/1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米 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LE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4400" marR="104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0" rIns="1044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防护等级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PROTEC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400" marR="104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2600" rIns="102600" tIns="51480" bIns="514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IP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2600" marR="1026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104400" rIns="1044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光色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色温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LIGHT COLOU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400" marR="1044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0" rIns="104400" tIns="50400" bIns="50400" anchor="ctr">
                      <a:noAutofit/>
                    </a:bodyPr>
                    <a:p>
                      <a:pPr marL="609480" indent="-609480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暖黄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3000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4400" marR="104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0" rIns="1044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灯体颜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BODY COLOU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400" marR="104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2600" rIns="102600" tIns="51480" bIns="514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如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2600" marR="1026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2600">
                <a:tc>
                  <a:txBody>
                    <a:bodyPr lIns="104400" rIns="1044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光通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LUM.FLU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400" marR="1044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0" rIns="104400" tIns="50400" bIns="50400" anchor="ctr">
                      <a:noAutofit/>
                    </a:bodyPr>
                    <a:p>
                      <a:pPr marL="609480" indent="-609480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90LM/w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4400" marR="104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4400" rIns="1044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工作电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VOLTAG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400" marR="104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02600" rIns="102600" tIns="51480" bIns="51480" anchor="ctr">
                      <a:noAutofit/>
                    </a:bodyPr>
                    <a:p>
                      <a:pPr marL="609480" indent="-609480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AC220V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2600" marR="1026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8160">
                <a:tc>
                  <a:txBody>
                    <a:bodyPr lIns="104400" rIns="1044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灯具特性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CHARACT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400" marR="1044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104400" rIns="104400" tIns="50400" bIns="504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、户外防水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,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玻璃胶固定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材质：绝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PVC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胶料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芯片：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835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灯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灯珠数量：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20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4400" marR="1044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98600">
                <a:tc gridSpan="4">
                  <a:txBody>
                    <a:bodyPr lIns="104400" rIns="1044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400" marR="1044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0880">
                <a:tc>
                  <a:txBody>
                    <a:bodyPr lIns="104400" rIns="104400" tIns="50400" bIns="504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参考供应商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04400" marR="1044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104400" rIns="104400" tIns="50400" bIns="504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28880"/>
                          <a:tab algn="l" pos="2057400"/>
                          <a:tab algn="l" pos="3086280"/>
                          <a:tab algn="l" pos="4114800"/>
                          <a:tab algn="l" pos="5143680"/>
                          <a:tab algn="l" pos="6172200"/>
                          <a:tab algn="l" pos="7201080"/>
                          <a:tab algn="l" pos="8229600"/>
                          <a:tab algn="l" pos="9258480"/>
                          <a:tab algn="l" pos="102870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04400" marR="1044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68" name="图片 1" descr=""/>
          <p:cNvPicPr/>
          <p:nvPr/>
        </p:nvPicPr>
        <p:blipFill>
          <a:blip r:embed="rId1"/>
          <a:stretch/>
        </p:blipFill>
        <p:spPr>
          <a:xfrm>
            <a:off x="1104840" y="3965400"/>
            <a:ext cx="5351400" cy="2791080"/>
          </a:xfrm>
          <a:prstGeom prst="rect">
            <a:avLst/>
          </a:prstGeom>
          <a:ln w="0">
            <a:noFill/>
          </a:ln>
        </p:spPr>
      </p:pic>
      <p:pic>
        <p:nvPicPr>
          <p:cNvPr id="69" name="图片 2" descr=""/>
          <p:cNvPicPr/>
          <p:nvPr/>
        </p:nvPicPr>
        <p:blipFill>
          <a:blip r:embed="rId2"/>
          <a:stretch/>
        </p:blipFill>
        <p:spPr>
          <a:xfrm>
            <a:off x="1152360" y="6948360"/>
            <a:ext cx="4218120" cy="2543400"/>
          </a:xfrm>
          <a:prstGeom prst="rect">
            <a:avLst/>
          </a:prstGeom>
          <a:ln w="0">
            <a:noFill/>
          </a:ln>
        </p:spPr>
      </p:pic>
      <p:pic>
        <p:nvPicPr>
          <p:cNvPr id="70" name="图片 3" descr=""/>
          <p:cNvPicPr/>
          <p:nvPr/>
        </p:nvPicPr>
        <p:blipFill>
          <a:blip r:embed="rId3"/>
          <a:stretch/>
        </p:blipFill>
        <p:spPr>
          <a:xfrm>
            <a:off x="5369040" y="7020000"/>
            <a:ext cx="1751040" cy="22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7T02:46:00Z</dcterms:created>
  <dc:creator>zhangzhao</dc:creator>
  <dc:description/>
  <dc:language>en-US</dc:language>
  <cp:lastModifiedBy>xbany</cp:lastModifiedBy>
  <dcterms:modified xsi:type="dcterms:W3CDTF">2019-10-30T09:51:50Z</dcterms:modified>
  <cp:revision>88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